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лиганд неутралан молекул назив се не мења. Изузеци су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637000"/>
          <a:ext cx="8064360" cy="26398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 комплек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ониј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љен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кс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кс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з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лиганд у облику позитивног јона његов назив се завршава наставком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ију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87280" y="2637000"/>
          <a:ext cx="6674040" cy="2582640"/>
        </p:xfrm>
        <a:graphic>
          <a:graphicData uri="http://schemas.openxmlformats.org/drawingml/2006/table">
            <a:tbl>
              <a:tblPr/>
              <a:tblGrid>
                <a:gridCol w="3337200"/>
                <a:gridCol w="33368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 комплек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зил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азин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метиламон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то конве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 лиганада преко два или више угљеникових атома ланчаног или цикличног органског једињења за централни метални атом означавамо грчким слов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е се може читати и ка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неких лиганада да се вежу за централни атом са више својих угљеникових атома називам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птеи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лиганд везан само преко једног атома угљеника онда се назива монохапто лиганд (ознак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везан преко два атома угљеника назива се дихапто лиганд (ознак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везан преко три атома угљеника онда се назива трихапто лиганд (ознак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лоро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тилен)платина(II)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ниндихлоро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тилен)платина(II)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 комплекси са мостним лиганд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ни атоми или атомске групе обележавају се грчким словом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или више лиганада означавају с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ри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рмулама се обележавају одговарајућим бројем у доњем десном уг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у комплексу постоји више атома или атомских група који граде мостове онда се у називу наводе све такве гру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линуклеарних комплекса долазе до изража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краке ивич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краке странич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е мостне ве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разликовале од мостних веза динуклеарних комплекса број се пише у горњем десном уг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128556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и називе следећих комплексних једињењ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I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CN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оменклатура компл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рмулама комплексних једињења на прво место се ставља катјон, затим анјон без обзира на то да ли су катјон и анјон једноставни јони или у облику комплексних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ању формула комплексних честица централ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долази на прво место, затим лиган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ању (или изговарању) назива комплексне честице прво се пишу називи лиганада, а затим назив централног металног ј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комплексна честица у облику катјона или је неутрална при писању назива комплекса назив централног атома се не м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9288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комплексна честица у облику анјона при писању назива комплекса на назив централног металног атома додаје се наставак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а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ању назива комплекса или само комплексне честице оксидациони број централног атома пише се римским бројем и ставља се у загр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ању назива комплексних једињења са једноставним лигандима користе се грчки префикси: 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три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тра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 пента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кса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ложених лиганада користе се префикси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,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i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,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traki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рмули комплексне честице лиганди се пишу следећим редом: анјонски, неутрални, катјон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l(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акваалуминијум(III)-ј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n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хлоридоманганат(III)-ј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равно је и пентахлороманганат(III)-јо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ању назива комплекса лиганди се ређају п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бецедном реду (користити називе лиганада онако како се пишу) не узимајући у обзир префикс за број лигана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u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амминдиаквабакар(II)-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м лигандима додајемо у називу настав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2276640"/>
          <a:ext cx="7747200" cy="3025440"/>
        </p:xfrm>
        <a:graphic>
          <a:graphicData uri="http://schemas.openxmlformats.org/drawingml/2006/table">
            <a:tbl>
              <a:tblPr/>
              <a:tblGrid>
                <a:gridCol w="2583000"/>
                <a:gridCol w="2581200"/>
                <a:gridCol w="2583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 комплек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татни ј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т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ни ј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ни ј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назив анјона завршава са –ид, тај наставак се замењује наставко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421000"/>
          <a:ext cx="7605720" cy="3017880"/>
        </p:xfrm>
        <a:graphic>
          <a:graphicData uri="http://schemas.openxmlformats.org/drawingml/2006/table">
            <a:tbl>
              <a:tblPr/>
              <a:tblGrid>
                <a:gridCol w="2535120"/>
                <a:gridCol w="2535120"/>
                <a:gridCol w="2535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 комплекс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sr-Latn-C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у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уо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sr-Latn-C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окс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ок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</a:t>
                      </a:r>
                      <a:r>
                        <a:rPr b="0" lang="sr-Latn-C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100008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доста одступања од наведених прав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4360" y="2205000"/>
          <a:ext cx="8064360" cy="287964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7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ј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 комплек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улф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улфид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ген-сулф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апт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6T09:42:26Z</dcterms:modified>
  <cp:revision>123</cp:revision>
  <dc:subject/>
  <dc:title>Slide 1</dc:title>
</cp:coreProperties>
</file>